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E25F-17DF-4DD1-B374-630E4A851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6056-CCD4-47EC-B00F-DE875E3ED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091C-CEFB-4530-AF54-927BCBA3D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8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0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55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58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0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67CB-D76F-43C2-B3A1-BA0EF0AE0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5315-54E1-4E71-8E56-56DA299FE1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9D69-EB86-40CB-9949-6D3632416C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3F33-CF47-4489-A10F-EE8470672C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E15A-40B4-40F4-9154-7C6C30C396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57A1-301D-4DBA-97F6-EA5842C87D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C723-913D-4398-B1D2-E8D700DB8E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E908-1C71-4C7A-AD2F-3B19C3061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D511-399D-4B44-8FC0-0150CDE80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3EC1-15DF-43E2-B840-E6FDBB7802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DDAA-7BFF-41C5-86A8-9B214DC143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91C48-5FEB-4050-A0D6-AD032CE0E2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B31B-F286-46EF-9576-BFA5B26D20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8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0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8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0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FC8D-D129-473F-AD7D-C59D21151C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A05A-33E1-4CC2-9461-BA96F66BB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318E-CDED-403B-A893-F8BF0B947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36F7-BB2F-4DA9-86BA-D4FA581B5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9DF6-61B7-44B4-80DB-B0A0B0216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ECF5-87BF-482C-A900-821C08436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5D02-3E36-4724-B99E-13288CFA5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C1CD-9358-4E99-A048-05822C4CD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47160" y="9751680"/>
            <a:ext cx="381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1C75-14BD-42A6-8E7C-26ECBC25A197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40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B1B4-A0B4-4188-B768-2CC88C68F4FB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87280" y="3789000"/>
            <a:ext cx="749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20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008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1ECF-C78A-44C2-96A2-43DE0D59C60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492280"/>
            <a:ext cx="7559640" cy="1074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omputer Graphic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04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4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장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그래픽 하드웨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그래픽 시스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입력 장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메인 컴퓨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그래픽 컨트롤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출력장치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그래픽 컨트롤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그래픽 프로세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그래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547640" y="2852640"/>
            <a:ext cx="6120000" cy="31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07A0-D143-4019-B087-E5B7712911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n-Interlacing vs. Interlac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040360" cy="250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D394-0EB4-43D5-A008-4910A80C6A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비트 평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비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, G, B) =(8, 8, 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, G, B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각각에 대해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56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회색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Gray Lev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총 몇 컬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80 by 1024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12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컬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프레임 버퍼 용량은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5545080" cy="32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53EE-7673-4F5E-B2E5-370A065A1B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벡터그래픽 장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ector Display, Calligraphic Display, Stroke Display, Random Displa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화소개념 없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무한 해상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자빔의 폭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&gt;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해상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일리어싱 없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자총의 움직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763272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B90F-5551-425B-93AE-E72AD65585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벡터그래픽 장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프레임 버퍼 없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디스플레이 리스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명령어 집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334200" cy="28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D6B8-253E-447A-A8D6-8FDF85F5E0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래스터 장비와 벡터 장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6710400" cy="2649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344000" cy="17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1BDF-8F37-4396-8BC4-CEAA14742B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벡터그래픽 장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빔투과 방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오실로스코우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레이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플로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Evans/Sutherland PS Se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2343240" cy="252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284720" y="4618080"/>
            <a:ext cx="3744720" cy="1906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284720" y="1773360"/>
            <a:ext cx="374328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5787-89DA-4462-8694-F049F50591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평판형 디스플레이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:  LC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Liquid Crystal Disp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컬러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액정의 배열상태 변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블라인트 커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59280" y="1052640"/>
            <a:ext cx="2303640" cy="2011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236000" y="836640"/>
            <a:ext cx="1434960" cy="215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39640" y="3500280"/>
            <a:ext cx="8209080" cy="21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CDC9-135A-4F4B-A9A3-21DA5A9DC0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평판형 디스플레이</a:t>
            </a: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: L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832360" cy="24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B5EA-07EC-4F9D-A6AC-747F26335C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평판형 디스플레이</a:t>
            </a: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: PD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sma Display Pan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표면방전에 의한 번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형광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35280" y="1484280"/>
            <a:ext cx="2376720" cy="196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70680" y="1484280"/>
            <a:ext cx="2317680" cy="1955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619280" y="3500280"/>
            <a:ext cx="540072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DB51-B2E9-447D-82EF-E21AA74B9B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평판형 디스플레이</a:t>
            </a: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: PD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726768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6C61-9604-40AA-8625-37C85F6838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워크스테이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GI FU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P XW 9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16000" y="2421000"/>
            <a:ext cx="3052800" cy="3816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4226040" cy="261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D6C4-328B-4443-811A-A05A149AD5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입체영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좌우 눈의 인식차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액정셔터 안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렌즈 배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3527640" cy="2835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2808000" cy="2100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780000" y="4076640"/>
            <a:ext cx="280800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7D44-B572-444C-BCBF-66D2D5D3DD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홀로그래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든 방향에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f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셔터 안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레이저와 육각렌즈 사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incess Leia in Star W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276720" y="3357720"/>
            <a:ext cx="3097080" cy="22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B1E2-15D9-450E-889C-EC5565EB10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그래픽 프로세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41988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D66C-A341-4E83-82B0-407B7B94B7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시스템 사양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GI FU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P XW 9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16000" y="1268280"/>
            <a:ext cx="6848640" cy="249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16000" y="4581360"/>
            <a:ext cx="683892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973A-616E-4F7C-A8E7-DA34CC539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T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기본원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848720" cy="33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6281-B496-4F4C-AF19-F2BD06EB38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래스터 그래픽 장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화소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Picture Element = Pixel = Ra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hosphor Do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종횡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Aspect Rat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4 : 3 T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16 : 9 HDT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해상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Resolu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도트 피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Dot Pitc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트라이어드 방식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스트라이프 방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187280" y="4076640"/>
            <a:ext cx="678204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9AEB-C79F-40EF-8A5A-5A786C00DE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화면 선명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샤도우 마스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애퍼처 그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529320" cy="2494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6121440" cy="283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3E85-F59A-450D-B41E-5F34186641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인터레이싱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주사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can Li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터레이싱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비월주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飛越走査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짜깁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Interlacing, Interleav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Hz: 30 Full Frame/Sec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보다는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60 Half Frame/S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NTSC TV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60 Half Frame/Sec, 525 Scan Line, 4:3 Aspect Rat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9640" y="2565360"/>
            <a:ext cx="8209080" cy="391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FAB8-1128-4D0B-92F8-791031C31C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래스터 그래픽 디스플레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화소단위 컬러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계단현상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Jaggies = Al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래스터 화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Rasterization) 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스캔 변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can Convers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 좌표에서 화면 좌표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부동소수 좌표에서 정수 좌표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4608720" cy="178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8F14-2E61-47A5-8D0E-6C222F05A3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프레임 버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 Buffer = Color Buffer = Video Mem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변환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프레임 버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디지털 정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-&gt;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아날로그 전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거의 동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매우 빠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2781360"/>
            <a:ext cx="720108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037C-2B89-43B0-A5F3-B82760A380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d</cp:lastModifiedBy>
  <dcterms:modified xsi:type="dcterms:W3CDTF">2005-09-16T00:45:02Z</dcterms:modified>
  <cp:revision>253</cp:revision>
  <dc:subject/>
  <dc:title>PowerPoint 프레젠테이션</dc:title>
</cp:coreProperties>
</file>